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E567-C570-4483-9ABE-53A7CF279ED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F65A-E576-4157-8796-20838E67A5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D044-D91B-4241-AAE5-F5BBA1DDB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79F7-D077-4DC3-BF50-A3C38886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8EA2-D4EB-4B81-8A96-03AF7C189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D08C-5645-435E-902A-85E5EBB9A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E3838-C38B-4067-8ACF-22CD406C7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56EA-628F-4332-AE0A-DEF27781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EAD8E-248F-4802-BB8F-F0C7A057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65DB-AE4A-4FFE-81D6-A98C7696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0FC7-A0B1-4FE7-B708-E229B311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3BC3-9698-4082-936D-DF2A03AA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AFC2-E46D-4942-8BA1-F9D5C054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DD79-E864-4B33-AFB3-FD9A01E7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E8B8-ED1F-49FC-A54D-9A8FC2F2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FC85-07DF-4EEE-AE03-BFA3C8FA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12E0-51B6-405E-8A64-0D37CDB4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BE22-E979-4A21-AE1E-595142B53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8794-B501-41FD-922B-82D0F6D96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5786-B129-491A-BDA1-73C46FF5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71E0-9CFD-4B4B-B876-107EC46E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9AA5-B709-4902-A6D0-2F4C1186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212C-B84D-421B-A460-F3095408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8C9B-B317-4EAB-B16E-4F662D238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F990-801B-44C9-9856-B96B56B2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CAE5-81F6-4224-A0E7-B7018804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8A14-45F3-4D93-8E09-C4CD1E0A8A9A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D9E1-C382-4C87-A47B-306717297162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9720" y="836280"/>
            <a:ext cx="771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9900"/>
                </a:solidFill>
                <a:latin typeface="Century Gothic"/>
                <a:ea typeface="Times New Roman"/>
              </a:rPr>
              <a:t>ЗАКРЕПЛЕНИЕ              МАТЕРИАЛА УРОКА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28800" y="2785680"/>
            <a:ext cx="6524640" cy="36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entury Gothic"/>
              </a:rPr>
              <a:t>Основные компоненты компьютера и их функции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85920" y="857160"/>
            <a:ext cx="2355840" cy="29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Century Gothic"/>
              </a:rPr>
              <a:t>Вопрос № 1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836280"/>
            <a:ext cx="788652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Для долговременного хранения информации служит…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а) оперативная память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б) процессор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в) внешний носитель;</a:t>
            </a:r>
            <a:r>
              <a:rPr b="1" lang="en-US" sz="18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г) дисковод;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Компьютер – это …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а) устройство для работы с текстами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б) устройство для обработки чисел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в) устройство для хранения информации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г) многофункциональное электронное устройство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для работы с информацией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1357200" y="3429000"/>
            <a:ext cx="23558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Century Gothic"/>
              </a:rPr>
              <a:t>Вопрос №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5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5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9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95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5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899640" y="1052280"/>
            <a:ext cx="781524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Устройство предназначено для вывода информации…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а) процессор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б) принтер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в) клавиатура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г) световое перо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Манипулятор «мышь» - это устройство …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а) долговременного хранения информации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б) ввода информации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в) для подключения принтера к компьютеру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г) считывания информации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279440" y="685800"/>
            <a:ext cx="2355840" cy="29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Century Gothic"/>
              </a:rPr>
              <a:t>Вопрос № 3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1357200" y="3643200"/>
            <a:ext cx="23558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Century Gothic"/>
              </a:rPr>
              <a:t>Вопрос №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5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5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7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8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708360" y="836640"/>
            <a:ext cx="2355840" cy="29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Century Gothic"/>
              </a:rPr>
              <a:t>Вопрос № 1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78868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Для долговременного хранения информации служит…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а) оперативная память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б) процессор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в) внешний носитель;</a:t>
            </a: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г) дисковод;</a:t>
            </a: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643280" y="3429000"/>
            <a:ext cx="765360" cy="4698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26920" y="1341360"/>
            <a:ext cx="709488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Компьютер – это …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а) устройство для работы с текстами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) устройство для обработки чисел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в) устройство для хранения информации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г) многофункциональное электронное устройство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для работы с информацией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3564000" y="692280"/>
            <a:ext cx="23558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Century Gothic"/>
              </a:rPr>
              <a:t>Вопрос №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219640" y="3500280"/>
            <a:ext cx="765360" cy="4701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99640" y="1052280"/>
            <a:ext cx="781524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Устройство предназначено для вывода информации…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а) процессор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б) принтер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в) клавиатура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г) световое перо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279440" y="685800"/>
            <a:ext cx="2355840" cy="29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Century Gothic"/>
              </a:rPr>
              <a:t>Вопрос № 3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916360" y="2708280"/>
            <a:ext cx="718920" cy="441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5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5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42560" y="1125360"/>
            <a:ext cx="781524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Манипулятор «мышь» - это устройство …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а) долговременного хранения информации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б) ввода информации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в) для подключения принтера к компьютеру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г) считывания информации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3635280" y="765000"/>
            <a:ext cx="23558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Century Gothic"/>
              </a:rPr>
              <a:t>Вопрос №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788000" y="2133720"/>
            <a:ext cx="838080" cy="514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45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9900"/>
                </a:solidFill>
                <a:latin typeface="Century Gothic"/>
              </a:rPr>
              <a:t>ПРОВЕРЬТЕ СЕБЯ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00080" y="1285560"/>
            <a:ext cx="928800" cy="41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1)  в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2)  г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3)  б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4)  б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Прямоугольник 6"/>
          <p:cNvSpPr/>
          <p:nvPr/>
        </p:nvSpPr>
        <p:spPr>
          <a:xfrm>
            <a:off x="2286000" y="2643120"/>
            <a:ext cx="6643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многофункциональное электронное устройство для работы с информац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7"/>
          <p:cNvSpPr/>
          <p:nvPr/>
        </p:nvSpPr>
        <p:spPr>
          <a:xfrm>
            <a:off x="2349720" y="1571760"/>
            <a:ext cx="316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внешние носи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8"/>
          <p:cNvSpPr/>
          <p:nvPr/>
        </p:nvSpPr>
        <p:spPr>
          <a:xfrm>
            <a:off x="2286000" y="357192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прин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9"/>
          <p:cNvSpPr/>
          <p:nvPr/>
        </p:nvSpPr>
        <p:spPr>
          <a:xfrm>
            <a:off x="2293920" y="4643280"/>
            <a:ext cx="32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ввода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трелка вправо 10"/>
          <p:cNvSpPr/>
          <p:nvPr/>
        </p:nvSpPr>
        <p:spPr>
          <a:xfrm>
            <a:off x="1785960" y="1785960"/>
            <a:ext cx="571320" cy="19836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fcc99"/>
          </a:solidFill>
          <a:ln w="25560">
            <a:solidFill>
              <a:srgbClr val="cc99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11"/>
          <p:cNvSpPr/>
          <p:nvPr/>
        </p:nvSpPr>
        <p:spPr>
          <a:xfrm>
            <a:off x="1785960" y="2786040"/>
            <a:ext cx="571320" cy="19836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fcc99"/>
          </a:solidFill>
          <a:ln w="25560">
            <a:solidFill>
              <a:srgbClr val="cc99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трелка вправо 12"/>
          <p:cNvSpPr/>
          <p:nvPr/>
        </p:nvSpPr>
        <p:spPr>
          <a:xfrm>
            <a:off x="1785960" y="3786120"/>
            <a:ext cx="571320" cy="19836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fcc99"/>
          </a:solidFill>
          <a:ln w="25560">
            <a:solidFill>
              <a:srgbClr val="cc99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трелка вправо 13"/>
          <p:cNvSpPr/>
          <p:nvPr/>
        </p:nvSpPr>
        <p:spPr>
          <a:xfrm>
            <a:off x="1785960" y="4857840"/>
            <a:ext cx="571320" cy="19836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fcc99"/>
          </a:solidFill>
          <a:ln w="25560">
            <a:solidFill>
              <a:srgbClr val="cc99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000"/>
                            </p:stCondLst>
                            <p:childTnLst>
                              <p:par>
                                <p:cTn id="2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7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9000"/>
                            </p:stCondLst>
                            <p:childTnLst>
                              <p:par>
                                <p:cTn id="2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15:56:15Z</dcterms:created>
  <dc:creator/>
  <dc:description/>
  <dc:language>en-US</dc:language>
  <cp:lastModifiedBy>Admin</cp:lastModifiedBy>
  <dcterms:modified xsi:type="dcterms:W3CDTF">2010-02-13T14:01:47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49</vt:lpwstr>
  </property>
</Properties>
</file>